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266C-067E-450E-8A90-30EE64A1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8224-53B3-49B2-88D1-F1BEC7C6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0B99-4173-4D6C-8746-4CBC563F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F927-0D2E-4C92-B4C6-525C5F37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46DB-5A4F-479E-BF52-6DF910F9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7C0-63B4-41FC-984C-63B41BFD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37DC-0AB2-40C7-B46F-865E2A1C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CC91-CA7B-45EC-9137-B25DB9C4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234-C46D-482E-A2BF-00A295D4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C7C-4261-40D8-8AC8-B76061BD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451D-823E-4073-BAEC-29348FD4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E1A-DF08-4C4E-A732-141ABAA8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3BBA-E4A4-48A7-87CD-173A00B8C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58 Prichádza večn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y Krá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chádza večnej slávy Kr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zývajú sa piesne chvá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lmami cesta vystla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ie vôkol: Sláva! Hosan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nešený, hoci chudob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sliatkom skromným nes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stupov poctu prijím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hriešnikov sa ují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k v nebi vlád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útok, ž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njeli vidia: Pán, ich Kráľ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, dobrý, presvät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smrti ide v ústre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rieť za nás on sa nebrán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smrťou svojou zachrán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ch, čo tu v neho dúfaj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pásu v ňom len hľadajú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31:39Z</dcterms:modified>
  <cp:revision>32</cp:revision>
  <dc:subject/>
  <dc:title>Je veľký náš Pán, on slávy je Kráľ Nech do všetkých strán  spev vrúcnych znie chvál.</dc:title>
</cp:coreProperties>
</file>